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C67B-8600-4BA0-A8A6-6F50E5B32C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BBE5-B913-4EFB-AD6B-212B53985A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on page 5</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6DE4-DB04-44FB-A435-E41131B4C0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4BEF-2B76-4645-AA43-AA8ED3DA0A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1EE4E-4EC6-46D0-830D-6C0913C4C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C68E-B8C5-4A51-98DD-FA05E370D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BE1C2-6109-4499-9395-D68C0F75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A74E-ADF3-4FB4-8820-1D86A6D36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D6F3-1644-4E2A-97C9-274D98EB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2DC9-36A5-48D9-A2B2-755E5C2DB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D7B4-5A3D-4547-BF43-BAEB1402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163C-A28E-4BE7-91D7-B0CB0403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2919-857E-4FE1-B40C-9C890E74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D2EC-566C-4823-8909-2AD806D3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45E4-AFFA-40A1-8BF7-F0043B97B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F8CA9-1542-49EB-B691-2F6AD49CD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123160" y="297180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hapter</a:t>
            </a:r>
            <a:endParaRPr b="0" lang="en-US" sz="2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5"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 name="Picture 8" descr="Pearson_Bound_White"/>
          <p:cNvPicPr/>
          <p:nvPr/>
        </p:nvPicPr>
        <p:blipFill>
          <a:blip r:embed="rId2"/>
          <a:stretch/>
        </p:blipFill>
        <p:spPr>
          <a:xfrm>
            <a:off x="7621560" y="6400800"/>
            <a:ext cx="1533600" cy="457200"/>
          </a:xfrm>
          <a:prstGeom prst="rect">
            <a:avLst/>
          </a:prstGeom>
          <a:ln w="0">
            <a:noFill/>
          </a:ln>
        </p:spPr>
      </p:pic>
      <p:pic>
        <p:nvPicPr>
          <p:cNvPr id="94" name="Picture 9" descr="Pearson_Strap_Bound_White"/>
          <p:cNvPicPr/>
          <p:nvPr/>
        </p:nvPicPr>
        <p:blipFill>
          <a:blip r:embed="rId3"/>
          <a:stretch/>
        </p:blipFill>
        <p:spPr>
          <a:xfrm>
            <a:off x="-3240" y="6400800"/>
            <a:ext cx="1766880" cy="457200"/>
          </a:xfrm>
          <a:prstGeom prst="rect">
            <a:avLst/>
          </a:prstGeom>
          <a:ln w="0">
            <a:noFill/>
          </a:ln>
        </p:spPr>
      </p:pic>
      <p:sp>
        <p:nvSpPr>
          <p:cNvPr id="9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a:t>
            </a:r>
            <a:r>
              <a:rPr b="0" i="1" lang="en-US" sz="900" spc="-1" strike="noStrike">
                <a:solidFill>
                  <a:srgbClr val="ffffff"/>
                </a:solidFill>
                <a:latin typeface="Verdana"/>
              </a:rPr>
              <a:t>Fifth Edition</a:t>
            </a:r>
            <a:r>
              <a:rPr b="0" lang="en-US" sz="900" spc="-1" strike="noStrike">
                <a:solidFill>
                  <a:srgbClr val="ffffff"/>
                </a:solidFill>
                <a:latin typeface="Verdana"/>
              </a:rPr>
              <a:t>, Denise Gosselin</a:t>
            </a:r>
            <a:endParaRPr b="0" lang="en-US" sz="900" spc="-1" strike="noStrike">
              <a:solidFill>
                <a:srgbClr val="000000"/>
              </a:solidFill>
              <a:latin typeface="Arial"/>
            </a:endParaRPr>
          </a:p>
        </p:txBody>
      </p:sp>
      <p:sp>
        <p:nvSpPr>
          <p:cNvPr id="9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9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E8F1-3BFF-4A5A-8051-6BC4D9FAFD9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572000" y="3678120"/>
            <a:ext cx="450540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6766200" y="2558880"/>
            <a:ext cx="11408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11</a:t>
            </a:r>
            <a:endParaRPr b="0" lang="en-US" sz="6600" spc="-1" strike="noStrike">
              <a:solidFill>
                <a:srgbClr val="000000"/>
              </a:solidFill>
              <a:latin typeface="Arial"/>
            </a:endParaRPr>
          </a:p>
        </p:txBody>
      </p:sp>
      <p:sp>
        <p:nvSpPr>
          <p:cNvPr id="147" name="TextBox 1"/>
          <p:cNvSpPr/>
          <p:nvPr/>
        </p:nvSpPr>
        <p:spPr>
          <a:xfrm>
            <a:off x="4572000" y="38098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lice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timate Partner Violenc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rrest Procedure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licies are classified into three categories:</a:t>
            </a:r>
            <a:endParaRPr b="0" lang="en-US" sz="2600" spc="-1" strike="noStrike">
              <a:solidFill>
                <a:srgbClr val="000000"/>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ndatory arrest </a:t>
            </a:r>
            <a:r>
              <a:rPr b="0" lang="en-US" sz="2400" spc="-1" strike="noStrike">
                <a:solidFill>
                  <a:srgbClr val="000000"/>
                </a:solidFill>
                <a:latin typeface="Verdana"/>
              </a:rPr>
              <a:t>requires a police officer to arrest a person without a warrant, based on a probable cause determination that an offense occurred and that the accused person committed the offens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arrest</a:t>
            </a:r>
            <a:r>
              <a:rPr b="0" lang="en-US" sz="2400" spc="-1" strike="noStrike">
                <a:solidFill>
                  <a:srgbClr val="000000"/>
                </a:solidFill>
                <a:latin typeface="Verdana"/>
              </a:rPr>
              <a:t> gives authority for an arrest without a warrant, but is not required action in cases involving domestic partner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rest</a:t>
            </a:r>
            <a:r>
              <a:rPr b="0" lang="en-US" sz="2400" spc="-1" strike="noStrike">
                <a:solidFill>
                  <a:srgbClr val="000000"/>
                </a:solidFill>
                <a:latin typeface="Verdana"/>
              </a:rPr>
              <a:t> is at the officer’s discretion.</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rimary Aggressor Determination</a:t>
            </a:r>
            <a:endParaRPr b="0" lang="en-US" sz="4000" spc="-1" strike="noStrike">
              <a:solidFill>
                <a:srgbClr val="ffffff"/>
              </a:solidFill>
              <a:latin typeface="Verdana"/>
            </a:endParaRPr>
          </a:p>
        </p:txBody>
      </p:sp>
      <p:sp>
        <p:nvSpPr>
          <p:cNvPr id="167"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primary aggressor in IPV is the person who is responsible for the perpetuation of the violence,</a:t>
            </a:r>
            <a:r>
              <a:rPr b="0" lang="en-US" sz="2800" spc="-1" strike="noStrike">
                <a:solidFill>
                  <a:srgbClr val="000000"/>
                </a:solidFill>
                <a:latin typeface="Verdana"/>
              </a:rPr>
              <a:t> not necessarily who initiated it in one particular incident.</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rimary aggressor determination should not include who started verbal arguments.</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bal provocation is not a justifiable cause for assaultive behavior.</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rimary Aggressor Determination</a:t>
            </a:r>
            <a:endParaRPr b="0" lang="en-US" sz="4000" spc="-1" strike="noStrike">
              <a:solidFill>
                <a:srgbClr val="ffffff"/>
              </a:solidFill>
              <a:latin typeface="Verdana"/>
            </a:endParaRPr>
          </a:p>
        </p:txBody>
      </p:sp>
      <p:sp>
        <p:nvSpPr>
          <p:cNvPr id="16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aggressor laws offer guidance to police officers in determining who is the victim and who is the offender.</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nvolves using standards other than gender or size of the individuals involved.</a:t>
            </a:r>
            <a:endParaRPr b="0" lang="en-US" sz="2400" spc="-1" strike="noStrike">
              <a:solidFill>
                <a:srgbClr val="000000"/>
              </a:solidFill>
              <a:latin typeface="Verdana"/>
            </a:endParaRPr>
          </a:p>
          <a:p>
            <a:pPr marL="343080" indent="-343080">
              <a:spcBef>
                <a:spcPts val="275"/>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rs consider:</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poses the most danger to the 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is at most risk of future harm?</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o Arrest or Not to Arrest</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ve questions that police officers must consider when making the arrest decision:</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action constitute a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probable cause that a crime was committ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crime a misdemeanor or a felon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e officer have the warrantless power of arrest for that cr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an outstanding protection order that has been violated?</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3"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le cause is a standard of proof that must be satisfied for any search or seizure to occur. </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rest is legally defined as a seizure and therefore falls under the same requirement for probable cause as a search.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quirement is stated in the Fourth Amendment of the U.S. Constitution and in state constitutions. </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rces for determining probable cause include the following:</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ve knowledge doctrin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about the suspect</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pect’s behavior with polic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hearsay</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of the police</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What About Probable Cause?</a:t>
            </a:r>
            <a:endParaRPr b="0" lang="en-US" sz="4000" spc="-1" strike="noStrike">
              <a:solidFill>
                <a:srgbClr val="ffffff"/>
              </a:solidFill>
              <a:latin typeface="Verdana"/>
            </a:endParaRPr>
          </a:p>
        </p:txBody>
      </p:sp>
      <p:sp>
        <p:nvSpPr>
          <p:cNvPr id="177"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rch and seizur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le cause requirement covers searches as well as seizures conducted by government official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ct adherence to federal and state constitutional guidelines is imperative to obtain evidence that will withstand the scrutiny of the court.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with a valid warrant is beneficial in domestic cases and should be considered to validate the statements of victims.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xceptions to the Warrant Requirement</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sent search: </a:t>
            </a:r>
            <a:r>
              <a:rPr b="0" lang="en-US" sz="2400" spc="-1" strike="noStrike">
                <a:solidFill>
                  <a:srgbClr val="000000"/>
                </a:solidFill>
                <a:latin typeface="Verdana"/>
              </a:rPr>
              <a:t>Consent must be given freely and voluntarily, not as a mere acquiescence to legal authority or under intimidat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igent circumstance and domestic violence: </a:t>
            </a:r>
            <a:r>
              <a:rPr b="0" lang="en-US" sz="2400" spc="-1" strike="noStrike">
                <a:solidFill>
                  <a:srgbClr val="000000"/>
                </a:solidFill>
                <a:latin typeface="Verdana"/>
              </a:rPr>
              <a:t>Police routinely enter homes for domestic calls and may investig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rch incident to a lawful arrest: </a:t>
            </a:r>
            <a:r>
              <a:rPr b="0" lang="en-US" sz="2400" spc="-1" strike="noStrike">
                <a:solidFill>
                  <a:srgbClr val="000000"/>
                </a:solidFill>
                <a:latin typeface="Verdana"/>
              </a:rPr>
              <a:t>A person who is legally under arrest may be search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lain-view seizure: </a:t>
            </a:r>
            <a:r>
              <a:rPr b="0" lang="en-US" sz="2400" spc="-1" strike="noStrike">
                <a:solidFill>
                  <a:srgbClr val="000000"/>
                </a:solidFill>
                <a:latin typeface="Verdana"/>
              </a:rPr>
              <a:t>Articles may be searched if in plain view in public places or where the police have a legitimate right to be present.</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erviewing</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est method of interviewing is to separate the parties and question them individually after a brief cooling-down perio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views should be conducted outside the hearing range of the other, with equal levels of respect afforded to each.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imes involving intimate partners, the process may be a long on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fficient time to assess the situation involves skillful interviewing and the desire to be thorough.</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Victim Protections</a:t>
            </a:r>
            <a:endParaRPr b="0" lang="en-US" sz="4000" spc="-1" strike="noStrike">
              <a:solidFill>
                <a:srgbClr val="ffffff"/>
              </a:solidFill>
              <a:latin typeface="Verdana"/>
            </a:endParaRPr>
          </a:p>
        </p:txBody>
      </p:sp>
      <p:sp>
        <p:nvSpPr>
          <p:cNvPr id="183"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s of Protection</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rt orders restrict or prohibit one individual’s behavior in order to protect another.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ly they include provisions restraining contact; prohibiting abuse, intimidation, or harassment; and prohibiting the possession of firearms.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 provisions may include financial resources for costs incurred due to partner violence and temporary custody of minor children.</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9" name=""/>
          <p:cNvSpPr txBox="1"/>
          <p:nvPr/>
        </p:nvSpPr>
        <p:spPr>
          <a:xfrm>
            <a:off x="457200" y="1600200"/>
            <a:ext cx="8229600" cy="4648320"/>
          </a:xfrm>
          <a:prstGeom prst="rect">
            <a:avLst/>
          </a:prstGeom>
          <a:noFill/>
          <a:ln w="0">
            <a:noFill/>
          </a:ln>
        </p:spPr>
        <p:txBody>
          <a:bodyPr anchor="t">
            <a:normAutofit/>
          </a:bodyPr>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empirical findings in police research into professional police arrest practices for IPV and use of probable cause.</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proarrest and mandatory arrest polici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he implications of dual arrest and its effects for future criminal justice practices.</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major concepts and provisions for domestic violence orders of protection.</a:t>
            </a:r>
            <a:endParaRPr b="0" lang="en-US" sz="2400" spc="-1" strike="noStrike">
              <a:solidFill>
                <a:srgbClr val="000000"/>
              </a:solidFill>
              <a:latin typeface="Verdana"/>
            </a:endParaRPr>
          </a:p>
          <a:p>
            <a:pPr marL="514440" indent="-514440">
              <a:spcBef>
                <a:spcPts val="601"/>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practical approaches to interviewing in cases of intimate partner violence.</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PV Across State Line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state domestic violence and interstate violation of protection orders are newer federal offenses.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law applies if a batterer travels across state lines to reach the victim, or if the victim was induced to travel across state lines to come to the batterer.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is gender-neutral; it applies to both male and female victims and their intimate partners.</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roduction</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demands for enforcement of criminal justice statutes in IPV and the creation of legislation to address newly recognized forms have not settled the debate regarding the role of the police officer.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ack of consensus has resulted in practices that vary widely from state to stat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out a clear direction on how to handle these complex problems, police officers often respond inappropriately.</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Role of Polic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 disturbance cases require a substantial portion of law enforcement resources.</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the largest single category of police response. </a:t>
            </a:r>
            <a:endParaRPr b="0" lang="en-US" sz="2800" spc="-1" strike="noStrike">
              <a:solidFill>
                <a:srgbClr val="000000"/>
              </a:solidFill>
              <a:latin typeface="Verdana"/>
            </a:endParaRPr>
          </a:p>
          <a:p>
            <a:pPr marL="339480" indent="-3394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mestic-violence-related calls to the police account for between 15% and over 50% of all calls.</a:t>
            </a:r>
            <a:endParaRPr b="0" lang="en-US" sz="28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lein, A. (2008). </a:t>
            </a:r>
            <a:r>
              <a:rPr b="0" i="1" lang="en-US" sz="1000" spc="-1" strike="noStrike">
                <a:solidFill>
                  <a:srgbClr val="000000"/>
                </a:solidFill>
                <a:latin typeface="Verdana"/>
              </a:rPr>
              <a:t>Practical implications of current domestic violence research. Part I: Law enforcement</a:t>
            </a:r>
            <a:r>
              <a:rPr b="0" lang="en-US" sz="1000" spc="-1" strike="noStrike">
                <a:solidFill>
                  <a:srgbClr val="000000"/>
                </a:solidFill>
                <a:latin typeface="Verdana"/>
              </a:rPr>
              <a:t>. Washington, DC: National Institute of Justice.</a:t>
            </a:r>
            <a:endParaRPr b="0" lang="en-US" sz="1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olice Officer Training</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police officers on domestic violence response is imperative. </a:t>
            </a:r>
            <a:endParaRPr b="0" lang="en-US" sz="2800" spc="-1" strike="noStrike">
              <a:solidFill>
                <a:srgbClr val="000000"/>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quarters of police departments require specialized domestic violence training for officers.</a:t>
            </a:r>
            <a:endParaRPr b="0" lang="en-US" sz="28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332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ownsend, M., Hunt, D., Kuck, S., &amp; Baxter, C. (2006). </a:t>
            </a:r>
            <a:r>
              <a:rPr b="0" i="1" lang="en-US" sz="1000" spc="-1" strike="noStrike">
                <a:solidFill>
                  <a:srgbClr val="000000"/>
                </a:solidFill>
                <a:latin typeface="Verdana"/>
              </a:rPr>
              <a:t>Law enforcement response to domestic violence calls for service, final report</a:t>
            </a:r>
            <a:r>
              <a:rPr b="0" lang="en-US" sz="1000" spc="-1" strike="noStrike">
                <a:solidFill>
                  <a:srgbClr val="000000"/>
                </a:solidFill>
                <a:latin typeface="Verdana"/>
              </a:rPr>
              <a:t>. (NCJ 215915). Rockville, MD: National Institute of Justice.</a:t>
            </a:r>
            <a:endParaRPr b="0" lang="en-US" sz="1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Police Officer Training</a:t>
            </a:r>
            <a:endParaRPr b="0" lang="en-US" sz="4000" spc="-1" strike="noStrike">
              <a:solidFill>
                <a:srgbClr val="ffffff"/>
              </a:solidFill>
              <a:latin typeface="Verdana"/>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time varies with departments. </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es provide domestic violence training between two or three days and one week of instruction for recruit and special unit training. </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Response Unit Training</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rol officer training includes victim case studies from actual incident responses and the specific responsibilities the officers have in making domestic violence arrests.</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ining also includes mandatory arrest and primary aggressor decision-making and detailed case preparation. </a:t>
            </a:r>
            <a:endParaRPr b="0" lang="en-US" sz="2600" spc="-1" strike="noStrike">
              <a:solidFill>
                <a:srgbClr val="000000"/>
              </a:solidFill>
              <a:latin typeface="Verdana"/>
            </a:endParaRPr>
          </a:p>
          <a:p>
            <a:pPr marL="343080" indent="-343080">
              <a:spcBef>
                <a:spcPts val="64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ethality or dangerousness assessment tool is used to identify the victims who are at the greatest risk.</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pecialized Domestic Violence Units (Results)</a:t>
            </a:r>
            <a:endParaRPr b="0" lang="en-US" sz="4000" spc="-1" strike="noStrike">
              <a:solidFill>
                <a:srgbClr val="ffffff"/>
              </a:solidFill>
              <a:latin typeface="Verdana"/>
            </a:endParaRPr>
          </a:p>
        </p:txBody>
      </p:sp>
      <p:sp>
        <p:nvSpPr>
          <p:cNvPr id="16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domestic violence units significantly increase the likelihood of prosecution, conviction, and sentencing.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zed units have officers trained to make more extensive inquiri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units also influence prosecution and conviction of abuse suspects, influence victim behavior, reduce subsequent abuse, and increase victim satisfaction.</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rrest Procedures</a:t>
            </a:r>
            <a:endParaRPr b="0" lang="en-US" sz="4000" spc="-1" strike="noStrike">
              <a:solidFill>
                <a:srgbClr val="ffffff"/>
              </a:solidFill>
              <a:latin typeface="Verdana"/>
            </a:endParaRPr>
          </a:p>
        </p:txBody>
      </p:sp>
      <p:sp>
        <p:nvSpPr>
          <p:cNvPr id="163"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ndate to police officers is far from clear.</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ws are constantly changing with respect to arrest procedure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ditions under which the officer may arrest vary greatly.</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4:06:09Z</dcterms:modified>
  <cp:revision>90</cp:revision>
  <dc:subject/>
  <dc:title>Slide 1</dc:title>
</cp:coreProperties>
</file>